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221B-B788-40FC-90F9-1DCE1DBE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39E9-33A4-40F2-BC9C-17690A45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29E7-BE17-4B9B-AF75-82DEE9BF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6647-9E6A-4CD1-A947-F884F57D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C96A-C57F-417B-937C-BE762D70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694E-08A8-4FB9-85A3-063B917F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946-E236-4FC3-ADE8-1265B9D4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17B8-EAC1-406C-B3F4-1DE78CDB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EF15-6005-427C-B1A3-A4D4EF0D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2237-1FA0-4043-9371-8D28C40E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545-259D-4261-BE72-5F1CA224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E80-6952-4F1D-A5CC-0F9A7DA5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034C-4693-475E-ABC4-480FD1230E22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765000"/>
            <a:ext cx="7005960" cy="1068840"/>
          </a:xfrm>
          <a:prstGeom prst="rect">
            <a:avLst/>
          </a:prstGeom>
          <a:solidFill>
            <a:srgbClr val="0000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Wie nennt man das Ergebnis einer Multiplik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3213000"/>
            <a:ext cx="2736720" cy="45972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Su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59280" y="3284640"/>
            <a:ext cx="29527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Quo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4437000"/>
            <a:ext cx="2880000" cy="7340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Produk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4508640"/>
            <a:ext cx="288144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: Differ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692280"/>
            <a:ext cx="676944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Wodurch ist ein Kreis festgeleg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3357720"/>
            <a:ext cx="309744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A: Radi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3640" y="3357720"/>
            <a:ext cx="2808360" cy="703440"/>
          </a:xfrm>
          <a:prstGeom prst="rect">
            <a:avLst/>
          </a:prstGeom>
          <a:solidFill>
            <a:srgbClr val="ff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Radi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5013360"/>
            <a:ext cx="2881440" cy="703440"/>
          </a:xfrm>
          <a:prstGeom prst="rect">
            <a:avLst/>
          </a:pr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Radi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6720" y="5084640"/>
            <a:ext cx="280836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: Ra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11. Wieviele Nullen hat eine Milliar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92360" y="2205000"/>
            <a:ext cx="1940040" cy="503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332000" y="2205000"/>
            <a:ext cx="1954080" cy="57456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3933720"/>
            <a:ext cx="172872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19640" y="4005360"/>
            <a:ext cx="194472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: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. Wie nennt man die Zahl 6 in dieser Rechnung?    24:6 =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4005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492280"/>
            <a:ext cx="295092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 Divid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2492280"/>
            <a:ext cx="280836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Quot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4508640"/>
            <a:ext cx="287964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Produk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59280" y="4508640"/>
            <a:ext cx="324180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: Divi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13.  Wieviel kg sind 7595 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2492280"/>
            <a:ext cx="331308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  0,7595 k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6720" y="2492280"/>
            <a:ext cx="309564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7kg 595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4724280"/>
            <a:ext cx="316872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75,95 k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4724280"/>
            <a:ext cx="3024360" cy="703440"/>
          </a:xfrm>
          <a:prstGeom prst="rect">
            <a:avLst/>
          </a:prstGeom>
          <a:solidFill>
            <a:srgbClr val="ff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: 7595 k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4:  Welche Figur hat 4 gleich lange Sei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2637000"/>
            <a:ext cx="302400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 Quadr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6720" y="2708280"/>
            <a:ext cx="316728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Recht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4869000"/>
            <a:ext cx="309708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Drei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9040" y="4869000"/>
            <a:ext cx="438084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: Parallelogram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: Welche Farbe hat der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0 Euro sche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2492280"/>
            <a:ext cx="3313080" cy="2239920"/>
          </a:xfrm>
          <a:prstGeom prst="rect">
            <a:avLst/>
          </a:prstGeom>
          <a:solidFill>
            <a:srgbClr val="ff0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 dunkel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un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2781360"/>
            <a:ext cx="259236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ro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4724280"/>
            <a:ext cx="3097080" cy="1630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: den gib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nic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9440" y="5013360"/>
            <a:ext cx="142272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r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00000" y="765000"/>
            <a:ext cx="7272360" cy="1312920"/>
          </a:xfrm>
          <a:prstGeom prst="rect">
            <a:avLst/>
          </a:prstGeom>
          <a:solidFill>
            <a:srgbClr val="0000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Was ist keine Grundrechnungs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2852640"/>
            <a:ext cx="2879640" cy="703440"/>
          </a:xfrm>
          <a:prstGeom prst="rect">
            <a:avLst/>
          </a:pr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e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32360" y="2924280"/>
            <a:ext cx="381492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njugie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4076640"/>
            <a:ext cx="360036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Dividie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4076640"/>
            <a:ext cx="4174920" cy="703440"/>
          </a:xfrm>
          <a:prstGeom prst="rect">
            <a:avLst/>
          </a:pr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: Subtrahie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4360" y="692280"/>
            <a:ext cx="7200720" cy="1312920"/>
          </a:xfrm>
          <a:prstGeom prst="rect">
            <a:avLst/>
          </a:prstGeom>
          <a:solidFill>
            <a:srgbClr val="000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Welche Zahl ist die folgende: C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3573360"/>
            <a:ext cx="3311280" cy="703440"/>
          </a:xfrm>
          <a:prstGeom prst="rect">
            <a:avLst/>
          </a:pr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3645000"/>
            <a:ext cx="251928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1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229360"/>
            <a:ext cx="302400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1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19640" y="5300640"/>
            <a:ext cx="3240000" cy="13129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: das ist keine Zah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55640" y="692280"/>
            <a:ext cx="597708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4. Wieviele Kanten hat ein Würfel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3213000"/>
            <a:ext cx="194472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3213000"/>
            <a:ext cx="295128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4724280"/>
            <a:ext cx="208944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4869000"/>
            <a:ext cx="3240000" cy="703440"/>
          </a:xfrm>
          <a:prstGeom prst="rect">
            <a:avLst/>
          </a:pr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: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836640"/>
            <a:ext cx="7416720" cy="1922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5. Wieviele Sekunden                                                           hat 1 Stun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3141720"/>
            <a:ext cx="316872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 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2360" y="3141720"/>
            <a:ext cx="3168720" cy="703440"/>
          </a:xfrm>
          <a:prstGeom prst="rect">
            <a:avLst/>
          </a:pr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5013360"/>
            <a:ext cx="338472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3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03640" y="4941720"/>
            <a:ext cx="3456000" cy="703440"/>
          </a:xfrm>
          <a:prstGeom prst="rect">
            <a:avLst/>
          </a:pr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: gar ke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108000" y="1197000"/>
            <a:ext cx="885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836640"/>
            <a:ext cx="676728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Wie lautet die Regel richti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3213000"/>
            <a:ext cx="3600360" cy="1312920"/>
          </a:xfrm>
          <a:prstGeom prst="rect">
            <a:avLst/>
          </a:pr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 Punkt vor Stri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3213000"/>
            <a:ext cx="3168720" cy="13129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Strich vor Punk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5300640"/>
            <a:ext cx="345600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Eg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19640" y="5229360"/>
            <a:ext cx="374508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: Strichpunk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765000"/>
            <a:ext cx="7704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Was heißt die Abkürzung: SM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2852640"/>
            <a:ext cx="3024360" cy="13129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A: Short master 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84720" y="2781360"/>
            <a:ext cx="4392720" cy="13129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B: Short message   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5013360"/>
            <a:ext cx="3024000" cy="13129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Sag mal Serv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27640" y="5013360"/>
            <a:ext cx="3816360" cy="13129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D: Salve mater sal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9640" y="620640"/>
            <a:ext cx="6553440" cy="2239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Was ist das doppelte 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älfte von 17?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2492280"/>
            <a:ext cx="352728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 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03640" y="2492280"/>
            <a:ext cx="388944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4941720"/>
            <a:ext cx="338436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9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56200" y="503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48360" y="4941720"/>
            <a:ext cx="352728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: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26920" y="1052640"/>
            <a:ext cx="784872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 Darf man durch Null dividie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3284640"/>
            <a:ext cx="3097440" cy="703440"/>
          </a:xfrm>
          <a:prstGeom prst="rect">
            <a:avLst/>
          </a:prstGeom>
          <a:solidFill>
            <a:srgbClr val="ff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 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8360" y="3284640"/>
            <a:ext cx="3311280" cy="7034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Ne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4941720"/>
            <a:ext cx="3384360" cy="703440"/>
          </a:xfrm>
          <a:prstGeom prst="rect">
            <a:avLst/>
          </a:pr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: Vielleic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48360" y="5157720"/>
            <a:ext cx="2879640" cy="1068840"/>
          </a:xfrm>
          <a:prstGeom prst="rect">
            <a:avLst/>
          </a:prstGeom>
          <a:solidFill>
            <a:srgbClr val="ff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: Nur bei Sonnensch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15:22:51Z</dcterms:created>
  <dc:creator>Johann Painold</dc:creator>
  <dc:description/>
  <dc:language>en-US</dc:language>
  <cp:lastModifiedBy>Johann Painold</cp:lastModifiedBy>
  <dcterms:modified xsi:type="dcterms:W3CDTF">2007-05-17T21:01:37Z</dcterms:modified>
  <cp:revision>19</cp:revision>
  <dc:subject/>
  <dc:title>Folie 1</dc:title>
</cp:coreProperties>
</file>